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4D1-EFD6-49B3-90D5-DB31C583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D83-5034-495A-9AFF-D062EF5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47A-CE9F-45BD-B3D1-A05BD20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440-BBCF-4FE8-8843-1503C0F5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72A9-3ECA-4051-8C77-9ACCEA5D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FBE-2C11-472D-9BDC-D5DF8A0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18E9-A462-4761-A743-1AD0630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A38-C796-4D80-BA1A-3E50AD3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2A4-D104-4A14-86A3-922B81A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FD6-5974-4057-A8E9-22C07CA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A458-E4D3-4E74-8012-FBA3279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9F3-C81A-4FEE-A738-C8C6476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615-FAEC-4999-B291-0350A2D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D198-40C3-471F-9E43-0F7EEA1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807-51E2-4F8D-AC29-AF268D7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3E0-34B6-4355-A909-82C22439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B1D-D71F-4A22-B11A-3768C3A3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9856-DB4F-493A-98E7-756EDF73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25B03-884E-4B58-B679-99BFF2C7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68437-53C0-48A1-83D4-9F87EB3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207D4-317A-440E-BA0C-8511C1FC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A5A40-517A-450F-A86E-35E64845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7B8-D41C-4B74-B1B1-42D5D93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5495F-C5F9-4508-8F16-2EE89CD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4ECAA-BF87-4A5E-8AA6-3299B22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8C156-CC72-455D-A213-B3F426E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D4D84-508C-4677-B7E9-1C52912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CFF70-FB8A-4A91-81A0-E8374DB2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7B7A7-07EE-4381-B981-E1300130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1258F-FD43-4CFD-B92A-976F9102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142D-54F0-4F65-AF1B-71DDCF8B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D2FB-F4C3-40E4-B7D7-E3096A6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0204-A1AC-411A-8E78-A9FE1D4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82C-AB54-4D1C-AD12-9B12AE59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088C-7876-4417-9E60-633120F8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8586-7CE1-402F-9E51-125D82B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8E50-E13A-40E3-A10A-D2D76E9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1F11-3EBC-4DC6-920C-86D9004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7633-656E-4AAF-B9C3-204685F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A59D-2395-4E77-BEA2-99BEB0A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48DE-1AB6-4150-964F-75AE2DF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5245-31BF-4710-BFC3-240FDE8F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B0BD-0F3B-4435-B550-A0B95A6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ADB46-7A39-4CD0-A722-17053A69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B9D-097D-4A34-8601-FB830163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FA1CC-08C1-4522-B71F-38F0CB1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35BE1-51B9-44F0-94AB-17BA8084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D50D5-E0BB-44DD-B3AC-C9E84BE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F4FEB-29AC-46DF-B98A-9A1E30B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3F122-58B1-4AE0-AA81-25D0E233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CF7B5-727E-4383-8D95-D62E0A5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5B399-EB84-4D5B-ACBB-EF0839C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14F18-49B5-4F88-B514-FE4176D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0ED08-8959-46FC-98EB-97C3406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A7AA0-334D-4DDA-AE81-7D215EB5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06B-1A79-4292-A8D0-2D97B855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87969-69C6-4B03-8A27-15D6C07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E1AF8-F56C-4601-A390-3684EA7C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088A5-6EED-4839-A080-95AAFF1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7674D-186E-4768-9EF7-7E5F6534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11EA6-A862-43D1-B45B-CEFCC75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8EE69-6A87-427C-912B-14BBF68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EBCD6-1F18-4DB3-9F10-3D5C5C2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D2458-5F67-4EC0-929C-0290BF6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70B6B-0AFB-428C-B484-9F55DDE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5F55C-4A1B-4F82-B630-36165AB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021-00E7-4031-9D80-04C8096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5E776-0690-4EC9-864A-940F6D3C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72133-584B-41F7-8F86-D781CCE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E8C18-58F5-4239-B599-06D95443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869AE-B4AE-4102-B1AC-701E6AB1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8DB0D-080B-4485-BAE7-5251FBD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74840-DEFB-4B0C-BCA6-34B47483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B8E15-2F71-4B00-82AA-BC981069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2F30F-FA9C-4D35-B8D3-94515168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6860B-A231-4537-8F36-6A212F8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AD4AF-108B-4DF9-A094-6308192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070-4109-4053-8FF6-680BFC2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A998E-7F4B-494C-80B0-69C8431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50D1B-ACD8-4986-B896-A850072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B232A-E84F-474A-94E6-756A9CBC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C4C24-73F9-4D34-B149-6C6776A0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52E00-225D-4745-9ACA-2854D04F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16F-3833-40CD-9CB1-6249821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9A38-0863-4E5A-B5B7-848047FF2D99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32A-140E-419B-89A9-00CB751C342C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B11-C260-41AB-989B-ACF29A47E3F2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F94F-79B5-4BA6-94BD-89FC82566E98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FDA-9CE3-45CE-BEE6-E9EA5689950B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81C-6E6B-4F93-9BC7-C1EEC565916D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1C5-2CD7-49A8-BB38-4D22F9100F9B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eonext.uni-bayreuth.de/data/start.html?CT=fr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4000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CABRI  GÉOMÈTRE II</a:t>
            </a:r>
            <a:br>
              <a:rPr sz="4000"/>
            </a:b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           VERSUS</a:t>
            </a:r>
            <a:br>
              <a:rPr sz="4000"/>
            </a:b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GEONE            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642760" y="4214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H:\geonext.png"/>
          <p:cNvPicPr/>
          <p:nvPr/>
        </p:nvPicPr>
        <p:blipFill>
          <a:blip r:embed="rId1"/>
          <a:stretch/>
        </p:blipFill>
        <p:spPr>
          <a:xfrm>
            <a:off x="4643280" y="364320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:\icone_cabri.jpg"/>
          <p:cNvPicPr/>
          <p:nvPr/>
        </p:nvPicPr>
        <p:blipFill>
          <a:blip r:embed="rId2"/>
          <a:stretch/>
        </p:blipFill>
        <p:spPr>
          <a:xfrm>
            <a:off x="7286760" y="857160"/>
            <a:ext cx="119052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54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parer pour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lever les forces et les manques afin d’avoir du recul par rapport à ce qui est présent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border un sujet de différentes faç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Varier notre enseign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entury Schoolbook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214200" y="58579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d2611c"/>
                </a:solidFill>
                <a:uFillTx/>
                <a:latin typeface="Calibri"/>
                <a:hlinkClick r:id="rId1"/>
              </a:rPr>
              <a:t>http://geonext.uni-bayreuth.de/data/start.html?CT=fr</a:t>
            </a: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:\geonext.png"/>
          <p:cNvPicPr/>
          <p:nvPr/>
        </p:nvPicPr>
        <p:blipFill>
          <a:blip r:embed="rId2"/>
          <a:stretch/>
        </p:blipFill>
        <p:spPr>
          <a:xfrm>
            <a:off x="6429240" y="328608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:\icone_cabri.jpg"/>
          <p:cNvPicPr/>
          <p:nvPr/>
        </p:nvPicPr>
        <p:blipFill>
          <a:blip r:embed="rId3"/>
          <a:stretch/>
        </p:blipFill>
        <p:spPr>
          <a:xfrm>
            <a:off x="1785960" y="326880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285840" y="5357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alibri"/>
              </a:rPr>
              <a:t>http://www.cabri.com/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54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Les logiciels de géométrie dynamique permettent de 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manipuler plus facilement certaines figures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’explorer différentes situations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découvrir certaines propriétés des figures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construire des figures à partir de leurs définitions et de leurs propriété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passer progressivement d’une géométrie où les objets et leurs propriétés sont contrôlés par la perception à une géométrie où ils le sont par explicitation de propriétés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favoriser une approche plus expérimentale des Mathématiqu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H:\geonext.png"/>
          <p:cNvPicPr/>
          <p:nvPr/>
        </p:nvPicPr>
        <p:blipFill>
          <a:blip r:embed="rId1"/>
          <a:stretch/>
        </p:blipFill>
        <p:spPr>
          <a:xfrm>
            <a:off x="3929040" y="47149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:\icone_cabri.jpg"/>
          <p:cNvPicPr/>
          <p:nvPr/>
        </p:nvPicPr>
        <p:blipFill>
          <a:blip r:embed="rId2"/>
          <a:stretch/>
        </p:blipFill>
        <p:spPr>
          <a:xfrm>
            <a:off x="7072200" y="571680"/>
            <a:ext cx="1190880" cy="116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3:02:56Z</dcterms:created>
  <dc:creator>greg</dc:creator>
  <dc:description/>
  <dc:language>en-US</dc:language>
  <cp:lastModifiedBy>greg</cp:lastModifiedBy>
  <dcterms:modified xsi:type="dcterms:W3CDTF">2010-04-19T04:47:18Z</dcterms:modified>
  <cp:revision>22</cp:revision>
  <dc:subject/>
  <dc:title>CABRI GEOMÈTRE II   Versus   GEONE          T</dc:title>
</cp:coreProperties>
</file>