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202-C18E-4941-B9AB-3F0A13EB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4456-B1B8-4D06-8DAB-04C97560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58C-8DA0-480C-9FBC-8EA8DC31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AB4-9827-4739-A748-840947E4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980-6402-4784-ABA3-127F5F20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8C2-271C-4904-AE14-A5B6AD1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729-309B-43B2-A0F1-908E4A0D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ACD2-2382-4933-BF58-C14B117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C54-3FAE-482B-87C1-157BB0ED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94B1-82F4-4166-8996-AFF39957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AE8E-551D-48C1-9B0C-2DBA538D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56B-026C-4370-9724-FDD7FD1B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E352-37BA-41D5-A575-4E7544A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68A9-552F-45ED-B0E8-20CED68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9F84-E679-4E8A-BF31-6E7E9F86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282C-026B-4B4C-8122-89B4F06C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2CB6-BAC5-4DBA-B656-50EE4A6C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CC7-0DDD-4FCF-AD7E-9DDF3F3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D4E2-E3A2-48A1-8BEC-5AD2489D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E14-F548-409E-82B1-6F3D387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EB7-9856-4F2B-BFF0-E9392A8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860-DF62-4473-8642-0E84C83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9D7-3B80-4D92-80CE-D8F74776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D32-0BFF-46E8-8446-75BECAF4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084-960C-4967-98A7-11854D167969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0E0-161B-4FC7-905B-38AF2B7B9B24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ozedion.com/" TargetMode="External"/><Relationship Id="rId2" Type="http://schemas.openxmlformats.org/officeDocument/2006/relationships/hyperlink" Target="http://www.lozedion.com/" TargetMode="External"/><Relationship Id="rId3" Type="http://schemas.openxmlformats.org/officeDocument/2006/relationships/hyperlink" Target="http://www.lozedion.com/" TargetMode="External"/><Relationship Id="rId4" Type="http://schemas.openxmlformats.org/officeDocument/2006/relationships/hyperlink" Target="http://www.lozedion.com/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tcconline.net/greenl/java/BasicAlgebra/LineGraph/LineGraph.htm" TargetMode="External"/><Relationship Id="rId2" Type="http://schemas.openxmlformats.org/officeDocument/2006/relationships/hyperlink" Target="http://id.mind.net/~zona/mmts/functionInstitute/linearFunctions/lsif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000000"/>
                </a:solidFill>
                <a:latin typeface="Arial"/>
              </a:rPr>
              <a:t>Outils informatiques </a:t>
            </a:r>
            <a:br>
              <a:rPr sz="4400"/>
            </a:br>
            <a:r>
              <a:rPr b="1" i="1" lang="fr-CA" sz="4400" spc="-1" strike="noStrike">
                <a:solidFill>
                  <a:srgbClr val="000000"/>
                </a:solidFill>
                <a:latin typeface="Arial"/>
              </a:rPr>
              <a:t>pour les enseignants </a:t>
            </a:r>
            <a:br>
              <a:rPr sz="4400"/>
            </a:br>
            <a:r>
              <a:rPr b="1" i="1" lang="fr-CA" sz="4400" spc="-1" strike="noStrike">
                <a:solidFill>
                  <a:srgbClr val="000000"/>
                </a:solidFill>
                <a:latin typeface="Arial"/>
              </a:rPr>
              <a:t>de math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ヒラギノ角ゴ ProN W3"/>
              </a:rPr>
              <a:t>ém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fr-CA" sz="4400" spc="-1" strike="noStrike">
                <a:solidFill>
                  <a:srgbClr val="000000"/>
                </a:solidFill>
                <a:latin typeface="Arial"/>
              </a:rPr>
              <a:t>t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dré Boile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urice Garanç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Atelier publicit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ivre publié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ez Loze-Dion</a:t>
            </a:r>
            <a:br>
              <a:rPr sz="3200"/>
            </a:br>
            <a:r>
              <a:rPr b="0" lang="fr-FR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fr-FR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lozedion</a:t>
            </a:r>
            <a:r>
              <a:rPr b="0" lang="fr-FR" sz="32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.</a:t>
            </a:r>
            <a:r>
              <a:rPr b="0" lang="fr-FR" sz="32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724280" y="609480"/>
            <a:ext cx="4029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rmation initiale des enseignants de mathématiques à l’UQAM (BES ma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 cours technolo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rogiciels (sans programm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Utilisations pédagogiq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rogiciels (avec programma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rojets techno + maths et/ou pédag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’est le manuel pour le premier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ritères de choix des outils / thèm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e 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Accessib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Générau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Multi plateform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tout pratique, mais aussi thé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emple : paramètres de y = 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Premier 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Second si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lace aux exemp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11:22:50Z</dcterms:created>
  <dc:creator>André Boileau</dc:creator>
  <dc:description/>
  <dc:language>en-US</dc:language>
  <cp:lastModifiedBy>André Boileau</cp:lastModifiedBy>
  <cp:lastPrinted>1904-01-01T00:00:00Z</cp:lastPrinted>
  <dcterms:modified xsi:type="dcterms:W3CDTF">2010-06-01T19:33:16Z</dcterms:modified>
  <cp:revision>6</cp:revision>
  <dc:subject/>
  <dc:title>Outils informatiques  pour les enseignants  de mathématiq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